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BEF-92CB-40CF-9074-55C81E21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F89-C544-4A38-A2D5-F0812B1B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0BDC-0116-4688-B41C-B9115E56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82B0-2610-43AF-8BA9-702DD889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37EE-8DBA-43F0-B759-AE948A4C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F52F-2E56-4EBA-B183-2B380125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4169-F4B9-4660-B511-AB0891FD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B1AC-948E-462E-BCAD-BBD32D19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069A-CCD4-40B7-BFB2-3E2DAF37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1DCC-E2A9-4649-B5F1-6ECBB237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8192-9665-43EB-A599-0C59BBED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23A-5DC3-411D-8D22-798CA5D7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E1D7-73A2-4D9C-AC22-910890E1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0169-E1C3-4EBF-A6D5-55666035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6C31-458F-4138-9B38-3DFBAE41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7893-C693-4345-BA25-A5944E24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0301-DDB2-4CB6-9A42-DC30A070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BE68-B3D4-4261-8A8C-78D378F3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94F-01E5-4080-8AB9-1B2F690A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C99-5D63-4E83-B2CE-4A6F05D7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4D1E-0B3F-4911-8098-4010C2D0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33F-F60E-4992-894A-0933AE54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176-5D3A-4AF9-968D-DBD5D592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6F44-238C-4099-898F-0C5A052E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D484-9C38-463C-B330-1E82C4BED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F04B-BF38-455A-9627-265DC36C529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chelle Kwan: Heart of a Champion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3160" y="34290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in 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5, Them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vocabulary template was created by Anita Archer for use by grade level teams cooperatively developing Power Points for vocabulary instr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07B6-FE29-428E-96D9-918C12064A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hildren are learning how to meditate, to calm their minds.  Once they lear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will be able to meditate for ho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45120" y="264636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22A-AC25-478C-B277-FA09B8B2C4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lympian archer mastered man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ing how to hold the bow, release the string, and aim at the targ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45120" y="2727360"/>
            <a:ext cx="3809880" cy="26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4E47-9D38-4080-BDA9-9CC831F646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468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batik artist uses many special techniques as she creates.  How might an artist acquire these techniq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by say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tist might gain techniques by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45120" y="2394000"/>
            <a:ext cx="3809880" cy="336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BE4-AB3A-4514-9FE4-B3083C4E02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cal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dj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describe the practical skills and methods used to do an activity such as an art, a craft, or a 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EA3-56AE-4C43-9307-860AB3E883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qu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le Kwan worked very hard to master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ice skating. Her jumps and landings require gre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.  Ice skating judges have found Michelle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er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678640" y="2017800"/>
            <a:ext cx="27432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5B5-EBBC-4F54-BA0D-02B310C466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cus Words - Re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comp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requ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If you need something, you  ______ some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 If you are slow to lose your temper, you are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 To do a difficult athletic skill, you need to learn 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 When you play a game and try to win, you ___________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926-FCE5-4E85-A4F9-9E8CE29D23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cus Wo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A1A5-56D5-4751-AB1E-749D1F88BD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ete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rb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Introduce word and student friendly explanation.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contest, sport, or game, you take part in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wh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ve to be the best at the acti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F65-788B-4334-8CA1-E669A6AB7C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ete</a:t>
            </a:r>
            <a:br>
              <a:rPr sz="44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Illustrate the vocabulary term with examples.)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bike rider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termine the fastest ri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45120" y="2576520"/>
            <a:ext cx="3809880" cy="29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A761-969A-43CB-A6DA-03062C6085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ete</a:t>
            </a:r>
            <a:br>
              <a:rPr sz="44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Illustrate the vocabulary term with examples.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foosball player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termine the best tea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45120" y="2643120"/>
            <a:ext cx="3809880" cy="28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C7E-49D0-4A2A-B92A-39EC54EEE9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ete</a:t>
            </a:r>
            <a:br>
              <a:rPr sz="44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Check understanding.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4611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any sports and games that you coul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.  Think of one that you would enjo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your partner what you would like to compete i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by say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would like to compete in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45120" y="2782800"/>
            <a:ext cx="3809880" cy="258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B6E-3888-4BA3-BDB7-D072477145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ete</a:t>
            </a:r>
            <a:br>
              <a:rPr sz="44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Extension: Introduce other members of word family.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80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ompeti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ompetito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ng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v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 loves 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races.  In the past, 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arathons, running the 26 miles.  After being injured in a skiing accident, he wanted to contin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arathons so he joined the wheelcha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om has proven to be a gre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inning a number of races. He is ver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ti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45120" y="2641680"/>
            <a:ext cx="380988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EE1-2049-4CFA-8D59-9548E88CA9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q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kill and ability in an artistic, sporting, or other practical activity that is developed through training and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C797-44A9-49C8-B9D2-9308C771B3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q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result of a great deal of practice, this martial artist has master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q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breaking brick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45120" y="2714760"/>
            <a:ext cx="3809880" cy="272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A089-56F1-4891-A77E-5657AF8AE1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5T13:05:11Z</dcterms:created>
  <dc:creator>Archer Anita</dc:creator>
  <dc:description/>
  <dc:language>en-US</dc:language>
  <cp:lastModifiedBy>Archer Anita</cp:lastModifiedBy>
  <dcterms:modified xsi:type="dcterms:W3CDTF">2012-06-10T02:57:40Z</dcterms:modified>
  <cp:revision>4</cp:revision>
  <dc:subject/>
  <dc:title>Michelle Kwan: Heart of a Champion </dc:title>
</cp:coreProperties>
</file>